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1ED-CEAA-4A84-B72B-D9F31096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1A2-4A18-48E9-9049-1CE073EE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E16-D9C4-4FF9-AFA9-01EF722A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986-509C-4075-B97C-22E27686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EB4-A0F8-4FA3-A7A6-645C63E7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3D9-E8E3-465F-87AD-E016632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110-3FB7-4901-8E45-23453B45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6D0-42B2-4CB0-AAD6-371821BC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2F2-087D-4015-8E5D-71996768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08F-2A91-4A85-8B46-9F777BB6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85C-46AE-47F8-BCB7-4DD486E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88B-56AA-4B1C-A4D2-C51A2DB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E2C7-600D-475A-95F5-7C47FB326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762120" y="6858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4572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914400" y="18288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74"/>
          <a:stretch/>
        </p:blipFill>
        <p:spPr>
          <a:xfrm>
            <a:off x="914400" y="9907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5:35:12Z</dcterms:modified>
  <cp:revision>42</cp:revision>
  <dc:subject/>
  <dc:title>PowerPoint Presentation</dc:title>
</cp:coreProperties>
</file>